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D84-5026-4044-B912-E852D544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92A-30C2-4725-B630-92F4783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A70-0B45-4578-8D89-DC623855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50B-55EF-469D-9D2F-2CEE53A6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DF9-F1D7-4089-94FF-5701CFA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0F1-352A-410D-AD32-44490C74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CFA-38DD-43F8-AEDE-E7F8594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D1B-7FC7-4214-B8F2-6EE4C098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AC7-5EE9-458C-A137-36CB0D7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E88-19B1-4E58-B997-47A1376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6DD-AFFB-4BE6-A2BD-4D9BCD3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F21-538A-40E7-8BAF-E506A5C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390A-5D50-467B-B4B9-50A873CBA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5160" y="1447920"/>
            <a:ext cx="424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0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248520" cy="118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248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124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172200" cy="1222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095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51Z</dcterms:modified>
  <cp:revision>208</cp:revision>
  <dc:subject/>
  <dc:title>Slide 1</dc:title>
</cp:coreProperties>
</file>